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470-3577-408B-91A9-812CEEFC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8F7-3A64-4FFA-B32C-88A0F65A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4AB-A961-418B-83E0-F4C3D8B5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FC8-890B-4121-8976-83B4D936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623-863C-4612-9529-CD32359B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33B-2F94-4897-8F77-030C836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11B-F450-438C-9C97-44D725D3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97C-29A8-4B0C-86E9-3E947BB3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012-161E-4368-8AFB-5D135F8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166A-19AF-4487-82F9-F3F9E72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E93C-9BA7-47BF-A4C0-2BEE26C8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BA-1C01-446D-9E0C-B4E1DDFB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D9E6-0615-41C3-9300-EEF5A23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52FF-D335-4DE3-B480-474F2DF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D06D-39B0-4D85-8E17-984F140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A4E-7E7A-4940-BCEE-328A8E4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7BB-A59C-40AC-AF75-BB04B88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B20F-ACD2-42B2-BAE1-6D4B95D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9821-25E2-457A-892C-88C7605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A7BB-01F9-45D7-82D5-13835CD0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A91F-1C83-4C93-B34D-3C78418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4936-7AFC-429E-8667-154B9B1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A3C-4768-4E59-B15C-6C01EF1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9498-E6A0-427C-B782-5242039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2F97-0CD8-4234-86C4-07074B6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E525-0959-4E61-8E57-83F4605B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2B7B-F762-48BD-AFA5-61E92CD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B499-61DB-4700-BD6D-C434D9D9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BB67-9A63-4853-88B7-710C473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F2A1-D859-48FE-8608-2D93F4A9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03E3-F33A-4CCB-99AA-56D5D8C6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98FB-7E7E-44EE-8808-2E3561C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98E7-932E-4DEC-8AF8-9CE8A430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76D-E881-4534-8A02-4B6C736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CC44-4359-45F0-85ED-0C31E78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BAAF8-1FD3-41F8-B280-5356F08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70EB-F650-451C-8F3A-B3B796A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BDDB-F7DB-4357-BBC4-82E669C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2093-BF9E-4969-832F-7330F40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4EDF-DA9F-4438-A091-2DF79BA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DF51-C4D9-48D7-9A5F-5AA7EAAC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D22B-6F9B-4BEF-BDA4-7EB5497B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13F2-A47C-448E-AA69-59214CA9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FA3-D744-4979-A44B-FB2BD66C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FAF-5AA5-4B98-A99C-FBF126F4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249-0982-49D0-AD54-B7AB674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7A3-4233-4CDD-AD04-3079CCF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24A-1C50-4D9B-956C-0D1D499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8520-12E2-48F6-94C0-B879940B1AD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B22-0734-4088-BB1F-E1F09AEFBD8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EB1-B06D-4537-B446-E96E6887A15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341-5A71-40AD-8AB7-F9E4D416687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БОУ «Средняя общеобразовательная школа №1»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. Мичуринск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по тем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химических задач с математическим содержание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имия и математик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 Людмила Иванов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1 -  4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2 – СН3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3 – СН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4 -  НСООН (муравьиная кислота) – 33,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2Н5ОН – 66,7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нейтрализацию 15,2г смеси муравьиной и уксусной кислот потребовалось 120г 10% раствора гидроксида натрия. Вычислите массовые доли кислот в исходной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есь изомерных м- и о-алкилфенолов массой 32,4г может вступить во взаимодействие с водным раствором, содержащим 128г брома. Такое же количество смеси может  нейтрализовать 16,8г едкого кали. Определите состав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строение сложного  эфира α-аминокислоты, если известно, что он содержит 15,37% аз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357120" y="2143080"/>
          <a:ext cx="8501040" cy="2928960"/>
        </p:xfrm>
        <a:graphic>
          <a:graphicData uri="http://schemas.openxmlformats.org/drawingml/2006/table">
            <a:tbl>
              <a:tblPr/>
              <a:tblGrid>
                <a:gridCol w="1908360"/>
                <a:gridCol w="920520"/>
                <a:gridCol w="986040"/>
                <a:gridCol w="987480"/>
                <a:gridCol w="874440"/>
                <a:gridCol w="874800"/>
                <a:gridCol w="1030320"/>
                <a:gridCol w="919080"/>
              </a:tblGrid>
              <a:tr h="19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дивидуальная рабо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Некоторый углеводород содержит 11,76% водорода по массе. Известно, что молекула этого углеводорода содержит один третичный атом углерода. Установлено, что этот углеводород может взаимодействовать с аммиачным раствором оксида серебра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рганическое вещесво, массовая доля углерода в котором составляет 0,6206, водорода – 0,1032, кислорода – 0,2758, имеет относительную плотность паров по воздуху, равную 2. Установлено, что вещество не реагирует с гидроксидом меди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, но вступает в реакцию с хлоридом фосфора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аническое вещество содержит 40% углерода, 53,3% кислорода, 6,6% водорода. Известно, что это соединение  взаимодействует гдроксидом калия, но не реагирует с калием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ассовая доля хлора в монохлоралкане 38,38%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 к задач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– С(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НСОО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ислени 1,18г смеси муравьиного и уксусного альдегидов избытком аммиачного раствора оксида серебра образовалось 8,64г осадка. Определите массовую долю альдегидов в смес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ый альдегид – 25,4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ый альдегид-74,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,6г смеси трех органических кислот – муравьиной, уксусной и щавелевой – разделили на две равные части. При полном сгорании первой части выделилось 20,16л газа. Для нейтрализаци второй  части смеси было израсходовано 400г 14% раствора едкого натра. Какой состав имела анализируемая смесь кисло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ая кислота – 13,8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ая кислота – 12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Щавелевая кислота – 9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ля работы в группах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месь бутена-1 и бутадиена-1,2 объемом 1,12л может максимально обесцветить 400г бромной воды с массовой долей брома 3,2%. Определите объемную долю бутен-1 в исходной смес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результатет межмолекулярной дегидратации предельного одноатомного спирта образовался простой эфир, массовая доля углерода в котором равна 52,17%. Установите молекулярную формулу спи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ведите молекулярную формулу органического вещества, содержащего 38,7% углерода, 16,2% водорода и азот. Относительная плотность этого вещества по водороду равна 15,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действии натрия на 27,6г смеси этилового спирта и предельной одноосновной кислоты выделяется 6,72л газа, а при действии на ту  же смесь насыщенного раствора гидрокарбоната натрия – 2,24л газа. Определите состав исходной  смеси ( в % по массе) и строение органической кисло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7:02:41Z</dcterms:created>
  <dc:creator>1</dc:creator>
  <dc:description/>
  <dc:language>en-US</dc:language>
  <cp:lastModifiedBy>Учительская</cp:lastModifiedBy>
  <dcterms:modified xsi:type="dcterms:W3CDTF">2021-11-17T15:53:36Z</dcterms:modified>
  <cp:revision>27</cp:revision>
  <dc:subject/>
  <dc:title>Решение химических задач с математическим содержанием</dc:title>
</cp:coreProperties>
</file>